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2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5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F65E2A-77C6-4032-AC53-FB525012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E568A2-5E89-4110-9885-A11B80F702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F82A6C-CD6B-4881-AAC8-1E6BC9EEE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50D-01CB-4D6A-88F9-B34DDA72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0F5-A918-41C3-9D90-2701230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FA9-9A6F-404C-A338-59D32778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B91-9747-43FF-8F88-E3CF70CA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6BAF-A994-44D6-A674-2C32A318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B1DA-4F47-44D2-8309-9D776BDA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91D0-50BC-40D2-B6FF-7331AF45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6B5D-DC71-47AC-A10A-45D3B30B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B02C-06D3-40EC-85E1-7DDECD7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F005-A532-4C77-A1F8-8F714DAF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5E5-9128-4A05-9CB2-346091C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534-3134-408B-A60A-FFE57C7D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5E1D-340C-4E7A-B0C4-00525CD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42E9-FB8C-4385-8AB3-CE1DD8F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93F5-2030-4FAE-9342-848D5036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1592-7A9E-4F06-9D93-819D78F0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937F-1331-420F-8119-E2969DAF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F78-567D-46F3-9EA2-C460516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6E2-1445-4C89-8EB3-C874370B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F08-33DA-46EF-A286-AE3800C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EE6-6B24-4B7A-9C79-A978D27D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432-2523-49F2-B74D-0564F00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9FB-CF0B-4B7D-9D24-B00DAC1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8A-5B99-4477-804A-C244E51B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704-B6AA-41FC-8437-01EA5168B6C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DA2-AF20-492B-A4DC-CB003911C703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pbs.org/wgbh/aia/part4/4h1567b.htm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78880" cy="334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Francis Scott Key 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rites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r Spangled Banner</a:t>
            </a: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ational Anthem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won at New Orlea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hent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Ended the war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oth sides didn</a:t>
            </a:r>
            <a:r>
              <a:rPr b="0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 think they could wi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howed the U.S. could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nd up to the British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5" descr="287538w"/>
          <p:cNvPicPr/>
          <p:nvPr/>
        </p:nvPicPr>
        <p:blipFill>
          <a:blip r:embed="rId1"/>
          <a:stretch/>
        </p:blipFill>
        <p:spPr>
          <a:xfrm>
            <a:off x="6956280" y="533520"/>
            <a:ext cx="218772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327776w"/>
          <p:cNvPicPr/>
          <p:nvPr/>
        </p:nvPicPr>
        <p:blipFill>
          <a:blip r:embed="rId2"/>
          <a:stretch/>
        </p:blipFill>
        <p:spPr>
          <a:xfrm>
            <a:off x="5410080" y="4448160"/>
            <a:ext cx="320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-36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**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Republic: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 Americans settle in Texa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Belongs to new country- Mexico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Mexico wants Americans to learn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custom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*No more Americans: Texas is MAD!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Texas asks to leave Mexico and be on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heir own, Mexico says NO!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Houston chosen as leader of Texas Army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5" descr="271724w"/>
          <p:cNvPicPr/>
          <p:nvPr/>
        </p:nvPicPr>
        <p:blipFill>
          <a:blip r:embed="rId2"/>
          <a:stretch/>
        </p:blipFill>
        <p:spPr>
          <a:xfrm>
            <a:off x="7391520" y="0"/>
            <a:ext cx="1641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150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attle for Independ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Mexico is winning at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lamo (1836)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ns stationed at Alamo; Mexico 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s. Mexico breaks through and kills all Tex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Texans Recover- Capture Santa Anna (Dictato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Picture 5" descr="623524w"/>
          <p:cNvPicPr/>
          <p:nvPr/>
        </p:nvPicPr>
        <p:blipFill>
          <a:blip r:embed="rId1"/>
          <a:stretch/>
        </p:blipFill>
        <p:spPr>
          <a:xfrm>
            <a:off x="457200" y="2895480"/>
            <a:ext cx="3857760" cy="266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290670w"/>
          <p:cNvPicPr/>
          <p:nvPr/>
        </p:nvPicPr>
        <p:blipFill>
          <a:blip r:embed="rId2"/>
          <a:stretch/>
        </p:blipFill>
        <p:spPr>
          <a:xfrm>
            <a:off x="4572000" y="2819520"/>
            <a:ext cx="3857760" cy="2809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228600" y="56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ing approximately 189 men, the Texans fought off the Mexicans, who numbered around 3,000-4,000 troops, for 13 days until the Mexican Army finally overran the Alamo on March 6, 1836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5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1836- Texas is FREE- On their own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ks to join the U.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says NO- North doesn’t like slaver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nally YES as slave state       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nnexed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to add in 184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265783"/>
          <p:cNvPicPr/>
          <p:nvPr/>
        </p:nvPicPr>
        <p:blipFill>
          <a:blip r:embed="rId1"/>
          <a:stretch/>
        </p:blipFill>
        <p:spPr>
          <a:xfrm>
            <a:off x="2438280" y="321624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7200" y="-60480"/>
            <a:ext cx="8229600" cy="137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1. Mexico starts to welcome Americans into    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ts territories (New Mexico &amp;  California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2.U.S. Annexes (adds) Texas (Upset Mexico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3. U.S.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boarder at Rio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Grande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                    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4.  Mexico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boarder at  Nueces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River</a:t>
            </a:r>
            <a:r>
              <a:rPr b="0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Picture 5" descr="266400"/>
          <p:cNvPicPr/>
          <p:nvPr/>
        </p:nvPicPr>
        <p:blipFill>
          <a:blip r:embed="rId2"/>
          <a:stretch/>
        </p:blipFill>
        <p:spPr>
          <a:xfrm>
            <a:off x="0" y="3048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1843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exico v. U.S.</a:t>
            </a: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Many Americans were against the war (Why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U.S. Wins Easily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uadalupe Hidalgo (1848)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ds War ($15 million) Mexico cedes (gave up) California &amp; all of Southwest gives Mexico mill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adsden Purchase-</a:t>
            </a:r>
            <a:r>
              <a:rPr b="1" lang="en-US" sz="3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($10 million) for S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Arizona and Southern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w Mexi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5" descr="266400"/>
          <p:cNvPicPr/>
          <p:nvPr/>
        </p:nvPicPr>
        <p:blipFill>
          <a:blip r:embed="rId1"/>
          <a:stretch/>
        </p:blipFill>
        <p:spPr>
          <a:xfrm>
            <a:off x="0" y="3726000"/>
            <a:ext cx="4419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378000" y="-12600"/>
            <a:ext cx="8235720" cy="823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Native Americ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President Jackson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wanted to open up the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nd  fro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eorgi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ississippi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for farmin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ian Removal Act of 1830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Pass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ongr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Order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ians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to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give up lands East of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Mississippi to trad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for land in Oklaho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BAD LAND!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3" name="Picture 9" descr="266321"/>
          <p:cNvPicPr/>
          <p:nvPr/>
        </p:nvPicPr>
        <p:blipFill>
          <a:blip r:embed="rId2"/>
          <a:srcRect l="7111" t="15947" r="2370" b="9568"/>
          <a:stretch/>
        </p:blipFill>
        <p:spPr>
          <a:xfrm>
            <a:off x="0" y="3276720"/>
            <a:ext cx="4870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-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heroke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Ref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herokee sue i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Supreme Court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o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op removal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Jackson ignores ord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1835- some Cherokee sign treaty but most of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7,000 do not agre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nd will not accept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2.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ail of Tears: 1838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Trail fro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eorgi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klahom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. Many die dur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800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mile march, treated bad by soldiers, hungry, cold, dise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Forced Out: Jackson Us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ilitary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– Sends 7,000 troops in to force remov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08800" cy="114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8" name="Picture 5" descr="The Trail of Tea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he Trail of Tears, historical oil painting by Max D. Standley"/>
          <p:cNvPicPr/>
          <p:nvPr/>
        </p:nvPicPr>
        <p:blipFill>
          <a:blip r:embed="rId4"/>
          <a:stretch/>
        </p:blipFill>
        <p:spPr>
          <a:xfrm>
            <a:off x="3505320" y="2971800"/>
            <a:ext cx="54864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Manifest Destiny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840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– Belief that the U.S. and it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people had the right to 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lonize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and use all territory from Atlantic to Pacific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ountain Men: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Early explorers head into Louisian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Send stories and goods back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Led people to explore the Wes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8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.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 Antiqua"/>
              </a:rPr>
              <a:t>Louisiana 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1.Purchased from France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  1803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$15 Million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(Napoleon Sells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2.  Geographic Loc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*East- Mississippi River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4" name="Picture 5" descr="an illustration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006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Promise of rich land in 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regon Trail-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ough trail, harsh conditions, not enough food, people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DIE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Both U.S. and Great Britain said they owned 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U.S. adds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5,000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more people &amp; British don</a:t>
            </a:r>
            <a:r>
              <a:rPr b="1" lang="ja-JP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1846 agreement to set border at the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49th Parallel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Oregon, Washington, Idaho, Wyoming, Montana.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Picture 5" descr="291464"/>
          <p:cNvPicPr/>
          <p:nvPr/>
        </p:nvPicPr>
        <p:blipFill>
          <a:blip r:embed="rId2"/>
          <a:stretch/>
        </p:blipFill>
        <p:spPr>
          <a:xfrm>
            <a:off x="1676520" y="990720"/>
            <a:ext cx="5715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IFORNIA!!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After Guadalupe Hidalgo (1848): belongs to U.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LD RUSH!! 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1848/49  (49</a:t>
            </a:r>
            <a:r>
              <a:rPr b="1" lang="ja-JP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r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Gold found at Sutter</a:t>
            </a:r>
            <a:r>
              <a:rPr b="1" lang="ja-JP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Mill 1848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100,000 people come between 1848-1849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Boomtowns: No Government /Rough Town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coming a State: 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850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*</a:t>
            </a:r>
            <a:r>
              <a:rPr b="1" lang="en-US" sz="3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anned Slavery: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eated trouble in Congress!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4" name="Picture 5" descr="265717"/>
          <p:cNvPicPr/>
          <p:nvPr/>
        </p:nvPicPr>
        <p:blipFill>
          <a:blip r:embed="rId1"/>
          <a:stretch/>
        </p:blipFill>
        <p:spPr>
          <a:xfrm>
            <a:off x="380880" y="228600"/>
            <a:ext cx="8502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265769"/>
          <p:cNvPicPr/>
          <p:nvPr/>
        </p:nvPicPr>
        <p:blipFill>
          <a:blip r:embed="rId1"/>
          <a:stretch/>
        </p:blipFill>
        <p:spPr>
          <a:xfrm>
            <a:off x="304920" y="457200"/>
            <a:ext cx="8556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-18432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Book Antiqua"/>
              </a:rPr>
              <a:t>3.  Explora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Lewis &amp; Clark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Job:  Explore the new territory of Louisiana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a North West Passage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the true size of the territory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iscover Native Americans.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escribe Natural Resource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 Sacagawea-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ndian Woman,  Hired to be guide,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learned English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cajawea shows Lewis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&amp; Clark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rough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e Louisiana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5" descr="288021w"/>
          <p:cNvPicPr/>
          <p:nvPr/>
        </p:nvPicPr>
        <p:blipFill>
          <a:blip r:embed="rId2"/>
          <a:stretch/>
        </p:blipFill>
        <p:spPr>
          <a:xfrm>
            <a:off x="4191120" y="1676520"/>
            <a:ext cx="4952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ustrial Revolution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reation of a factory system and use of  mechanical tools to improve life and producti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otton Gin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y Eli Whitney:1793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Steam Boat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5" descr="288026w"/>
          <p:cNvPicPr/>
          <p:nvPr/>
        </p:nvPicPr>
        <p:blipFill>
          <a:blip r:embed="rId2"/>
          <a:stretch/>
        </p:blipFill>
        <p:spPr>
          <a:xfrm>
            <a:off x="6095880" y="4095720"/>
            <a:ext cx="3048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27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New Land means they can move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roads and the 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NEW RAILROAD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835200" y="-55440"/>
            <a:ext cx="7930800" cy="88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urope was in a war, and needed supplies from U.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ople in U.S. losing $$/ Supplies were cut of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ritish v. United States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help Native Americans to attack American sett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War Hawks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nted the U.S. to fight G.B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 they like wa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burn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shington D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5" descr="287517w"/>
          <p:cNvPicPr/>
          <p:nvPr/>
        </p:nvPicPr>
        <p:blipFill>
          <a:blip r:embed="rId2"/>
          <a:stretch/>
        </p:blipFill>
        <p:spPr>
          <a:xfrm>
            <a:off x="5486400" y="4800600"/>
            <a:ext cx="3048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1:55:44Z</dcterms:created>
  <dc:creator>CCSD</dc:creator>
  <dc:description/>
  <cp:keywords/>
  <dc:language>en-US</dc:language>
  <cp:lastModifiedBy>Mobile Student</cp:lastModifiedBy>
  <dcterms:modified xsi:type="dcterms:W3CDTF">2015-02-13T00:53:03Z</dcterms:modified>
  <cp:revision>92</cp:revision>
  <dc:subject/>
  <dc:title>Westward Expans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